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E6A0-83F4-4F28-BF1F-6EB7FE78C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4411-CC7A-46BF-9E05-7E3628CC7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526B-CAC7-4D0C-8BED-6DF0821E9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6CBF-704E-40BF-807F-E7CBD465F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1B5A-3F1A-4AC0-BD29-7F84A877D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A4F-EB49-4A2A-9028-86E8B11E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7444-7651-416E-9148-0478319B5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AD39-85C5-425A-B9E4-7B030935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4BC3-01E2-4049-8512-8DBD5FE39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3A68-4530-4CCC-9D3F-5A9D745E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AA2E-B23B-4ED5-98A8-A4B336FC1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E42-AF44-4239-BE87-6EB97140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F3E-822F-4ADD-BBED-004DCA7B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C07-6911-4AE0-9C39-0C3CB54F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DDE-CF90-4413-B3FC-4BFFB7D4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D7A-462C-4EA7-BA9A-367246C1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91EE-5113-4537-B1C0-9E6D5C0F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9312-8B7B-484E-8237-90E04122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3423-2D5D-49AE-AA84-134833A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1019-D27D-4DBE-955F-92453EC9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6801-63ED-402C-9353-8B487FB7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81E7-78F2-4BCB-A2F8-ABE7AC9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58D2-1469-48E4-A883-835C987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C4B-1917-4265-B048-A3830BEB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0EC4-CB7B-4B90-BE49-03DC8C30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A98E-6B62-4FD3-ABFC-18638349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CCB6-EEC9-44F7-84D8-E7A09620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5B42-228F-4D01-AB45-12D94BE5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185A-3C3B-4F75-98D5-5D955A5B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5F63-0A91-4DE2-A221-B89E7CBD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404B-6F88-483C-BCD4-88D0943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0302-7060-4A71-B033-9A9A740A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772A-FEB8-4627-B1C5-C947FF19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1176-A546-4684-B831-3A7CF488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AE4-899E-4E00-BABD-03F36CE4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2416-A2D7-4F66-91BF-FD1542F1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FE05-4EF2-4D48-8EBC-F7BCE5CB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FCF9-E911-48E9-8B89-0707AD97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69CE-3BA0-45EE-8436-1C67A840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4A22-D4B9-453D-9932-0A80EC37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F6FD-A347-4051-9861-08B25CBA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5A45-6E26-4F74-B801-382EE4A5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E6757-DCED-403A-A289-2C0499AB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C961-54B9-49F3-940B-3E5AF4E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E462-D6A6-4AB7-8A65-28EDF949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819-4F22-400B-8B0D-60F2EA51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46E8-EE3B-4659-ACCF-5704E0EC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7C80-662E-463A-82D9-90BB4A15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2772-A3F4-43A4-8A96-F8C1358D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A599-A51E-42AA-A3C1-BC59492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5878-F5BC-4574-8E81-6FB7369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3256-6BB4-42E9-9446-CEC75072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4839F-9860-42EF-9087-35D571FB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E4FD-51BA-48EF-8058-BBCE462D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287E4-887C-4F00-92CD-F17174AF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F36E-C530-4FEC-901D-34064EFB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479-B74B-4AF1-AE50-004B0BA1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298DA-3FA8-4604-9FF6-14148B74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6F7DD-15F9-4EEC-86F6-6F5C15CF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8ACEE-23FA-496C-8B31-E14BDC9B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A4807-0245-4690-9655-57C262BB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D4DD-9694-4473-92C4-2AF77154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66E6B-7ADC-4394-8C47-B0E9B5B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7A1F-F369-461E-B76A-778F01DE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C2AC-B769-4188-803B-02354DFF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7BF3-5FF8-4121-A5D6-B6ACFA2C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A6726-1624-4146-811D-A2249BA1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0EB-8D88-4205-BED2-EBDBC6D5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E16EA-BDC2-4240-9554-75C74032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8A400-5B4F-41B8-8ECC-D6443EC1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D35D-5F02-439A-AC4D-DC0F0F3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3389F-1DD7-4D49-9907-9FB35A4A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B2E2-9291-4491-87FD-E283E729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9E8A-2B2F-441B-835E-C17DEA19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A7315-E1EB-43BF-B4BE-22919844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7DF9-3068-4428-9F50-05EE4BE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D7603-E00A-484D-AE8F-839A9CDC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8CF8B-FB53-4BF7-BF99-108CD6E2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173-1D71-4630-8F27-9F5B023B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D08F9-81AB-41CA-83FE-0D263F25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51D0-2BC5-48E8-9C78-BBABC839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7AAD-63ED-43B1-B7A9-2FC4E176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7C2-AF12-48F4-B2E3-3397A6C8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9C7-C98B-4DDE-8825-E528A47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6B6-D105-4B8F-B222-16D4FA0F2D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3B5D-2BF9-4C4C-BC7F-F3C2A321D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6359-027E-41BD-AA7B-14D13C0E2C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FF06-69CE-42D6-AF80-4A8ED82BE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706A-DBEA-40E0-99E7-D3226C34FF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A8A-24AB-45F4-A36D-7C3DA6130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B7BE-EA50-4CF9-B77A-7B7AFA1D1C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D698-EAC0-4561-BB1D-D3CD81FA4E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64FE-35D9-4D29-BC9B-F0DA07F8C1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5697-1040-4FD1-B84C-4BE901AD3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3BEB-F5CA-4387-BDC2-DB7282EBC6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98E7-37A0-4FC1-A039-5713E486F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352680" y="609480"/>
            <a:ext cx="559296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Basic Eth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6919-16C1-464E-A255-B2AD2DB880F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97B4-4DBD-4266-9F6F-1649E2B9E5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Ethics of Justice</a:t>
            </a: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288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the rules laws and seeking consequences for those who do n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a of reparation and making up for past mistak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" descr="8948"/>
          <p:cNvPicPr/>
          <p:nvPr/>
        </p:nvPicPr>
        <p:blipFill>
          <a:blip r:embed="rId1"/>
          <a:stretch/>
        </p:blipFill>
        <p:spPr>
          <a:xfrm>
            <a:off x="5452920" y="2006640"/>
            <a:ext cx="3175200" cy="4064040"/>
          </a:xfrm>
          <a:prstGeom prst="rect">
            <a:avLst/>
          </a:prstGeom>
          <a:ln w="0">
            <a:noFill/>
          </a:ln>
        </p:spPr>
      </p:pic>
      <p:sp>
        <p:nvSpPr>
          <p:cNvPr id="304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321-7346-4DC5-B4D5-394F332C48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2979-F371-416F-8ED8-A6540320D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thics of Virtu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s are analyzed by whether they show that you, as an individual, are trying to be the very best person you can b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s good persons will make good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5" descr="aristotle"/>
          <p:cNvPicPr/>
          <p:nvPr/>
        </p:nvPicPr>
        <p:blipFill>
          <a:blip r:embed="rId1"/>
          <a:stretch/>
        </p:blipFill>
        <p:spPr>
          <a:xfrm>
            <a:off x="6400800" y="2286000"/>
            <a:ext cx="2136600" cy="2590920"/>
          </a:xfrm>
          <a:prstGeom prst="rect">
            <a:avLst/>
          </a:prstGeom>
          <a:ln w="0">
            <a:noFill/>
          </a:ln>
        </p:spPr>
      </p:pic>
      <p:sp>
        <p:nvSpPr>
          <p:cNvPr id="310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921F-CEC0-485C-87A5-570039081E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31A4-56DA-49DE-B524-16699B7D96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Which of these ethics do you use to make decisions?</a:t>
            </a:r>
            <a:r>
              <a:rPr b="0" lang="en-US" sz="2900" spc="-1" strike="noStrike">
                <a:solidFill>
                  <a:srgbClr val="000000"/>
                </a:solidFill>
                <a:latin typeface="Calibri Light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173240" y="1981080"/>
          <a:ext cx="7665840" cy="4275360"/>
        </p:xfrm>
        <a:graphic>
          <a:graphicData uri="http://schemas.openxmlformats.org/drawingml/2006/table">
            <a:tbl>
              <a:tblPr/>
              <a:tblGrid>
                <a:gridCol w="4160880"/>
                <a:gridCol w="129528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Con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Egot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Du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Respect for 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Human R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Jus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cs of Virt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Date Placeholder 3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08E-680D-42AF-955D-C415588AB9C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8DEB-889A-472E-BF4F-F1CF379F2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Quickwrit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type of ethics do you think is the most important? 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finished, you will read your quickwrite to a partn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633A-86CB-493F-B902-D562AF766D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2382-B7FC-4243-81AB-9CFF732FD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151920"/>
            <a:ext cx="8564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On what basis do we make moral decisions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31680" y="838080"/>
            <a:ext cx="82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Religion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decisions based on religious teachings and tex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Conscience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you think and feel is right?  Do you feel good about it or guil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 Egoism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oosing only what is right for y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Duty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lfilling the expectations of a ro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Respect of Others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olden Ru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Human Rights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 making based in the belief that all people have inalienable right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Service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ing good for others and your commun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Justice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rules and the la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63c1"/>
                </a:solidFill>
                <a:latin typeface="Calibri"/>
              </a:rPr>
              <a:t>Ethics of Virtue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ing to perfect yourself in every w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8284-4514-4857-B5C9-8607FE5E3AD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78A2-79E4-4EE2-884E-56B2F72E2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thics of Relig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ing good is equivalent to doing whatever the Bible--or the Qur’an or some other sacred text or source of revelation--tells you to 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right” equals “What God tells me to do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029" descr="bible1"/>
          <p:cNvPicPr/>
          <p:nvPr/>
        </p:nvPicPr>
        <p:blipFill>
          <a:blip r:embed="rId1"/>
          <a:srcRect l="0" t="0" r="0" b="17457"/>
          <a:stretch/>
        </p:blipFill>
        <p:spPr>
          <a:xfrm>
            <a:off x="6781680" y="3429000"/>
            <a:ext cx="1733760" cy="863640"/>
          </a:xfrm>
          <a:prstGeom prst="rect">
            <a:avLst/>
          </a:prstGeom>
          <a:ln w="0">
            <a:noFill/>
          </a:ln>
        </p:spPr>
      </p:pic>
      <p:sp>
        <p:nvSpPr>
          <p:cNvPr id="265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D3F0-506A-4DEF-87C5-009423496FF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9E5D-A891-4927-8434-9C850DAEC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02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thics of Our Own Conscie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cience tells us what is right or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feel good about the choice or do you feel guil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ed on an optimistic view of human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clear distinctions between what is right and what is wro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ACFA-B7BC-4D12-9A6C-D88CB54C31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4996-2BE1-4192-A3E2-3D75E211A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thics of Egotis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 through evaluating your own self-inter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equences for others is not important or of little impor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decisions based only on what is good for yourself without taking anything else into consid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5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0D5E-FB38-444B-BAC5-E703B2930D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4318-7FA9-44C5-A4FB-FECBFB3028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thics of Dut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ing decisions based on the role you play in soci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ty may be determined 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hysician’s duty to care for the s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oldier’s duty to fight for his/her 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ent’s duty to care for his or her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6" descr="Kant"/>
          <p:cNvPicPr/>
          <p:nvPr/>
        </p:nvPicPr>
        <p:blipFill>
          <a:blip r:embed="rId1"/>
          <a:stretch/>
        </p:blipFill>
        <p:spPr>
          <a:xfrm>
            <a:off x="5403960" y="1981080"/>
            <a:ext cx="3054240" cy="3533760"/>
          </a:xfrm>
          <a:prstGeom prst="rect">
            <a:avLst/>
          </a:prstGeom>
          <a:ln w="0">
            <a:noFill/>
          </a:ln>
        </p:spPr>
      </p:pic>
      <p:sp>
        <p:nvSpPr>
          <p:cNvPr id="281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292-BC86-4AB1-9D14-A218117D08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AD3-8CF5-4213-90E3-7F50E3295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thics of Respect of the Individua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interactions should be governed by rules of resp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y respect is shown can vary from culture to cul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your decision earn you respect?  Is your decision respecting oth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lden Rule”: Do unto others as you would have them do unto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4B8D-9758-450B-B413-48C5183EDD6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3DCA-B267-43FF-98ED-C052FD81E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Ethics of Human Right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288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s are made by weighing whether the decision affects yours or anyone else’s inalienable righ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minimal conditions of human dec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men [women] are created equal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5" descr="Image of the Bill of Rights"/>
          <p:cNvPicPr/>
          <p:nvPr/>
        </p:nvPicPr>
        <p:blipFill>
          <a:blip r:embed="rId1"/>
          <a:stretch/>
        </p:blipFill>
        <p:spPr>
          <a:xfrm>
            <a:off x="5659560" y="2514600"/>
            <a:ext cx="2762280" cy="3048120"/>
          </a:xfrm>
          <a:prstGeom prst="rect">
            <a:avLst/>
          </a:prstGeom>
          <a:ln w="0">
            <a:noFill/>
          </a:ln>
        </p:spPr>
      </p:pic>
      <p:sp>
        <p:nvSpPr>
          <p:cNvPr id="292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366-A73B-4337-9694-533188AB3E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05A3-F3EB-445E-9CE2-4148AE75F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thics of Servic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0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sions are made by evaluation of whether it will help someone or the community have a better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ke the world a better place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s a high degree of self-sacrifice—we must consider the consequences for every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5" descr="MILL"/>
          <p:cNvPicPr/>
          <p:nvPr/>
        </p:nvPicPr>
        <p:blipFill>
          <a:blip r:embed="rId1"/>
          <a:stretch/>
        </p:blipFill>
        <p:spPr>
          <a:xfrm>
            <a:off x="1371600" y="1447920"/>
            <a:ext cx="1533600" cy="1904760"/>
          </a:xfrm>
          <a:prstGeom prst="rect">
            <a:avLst/>
          </a:prstGeom>
          <a:ln w="0">
            <a:noFill/>
          </a:ln>
        </p:spPr>
      </p:pic>
      <p:sp>
        <p:nvSpPr>
          <p:cNvPr id="298" name="Date Placeholder 4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C73-1BC9-417B-B4DD-F36F8F79101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(c) Lawrence M. Hinma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470-CDE4-489F-B8D8-56B7AE1BB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4T00:19:29Z</dcterms:created>
  <dc:creator>Lawrence M. Hinman</dc:creator>
  <dc:description/>
  <dc:language>en-US</dc:language>
  <cp:lastModifiedBy>Michelle Clark-Cadwell</cp:lastModifiedBy>
  <cp:lastPrinted>2015-08-04T14:18:02Z</cp:lastPrinted>
  <dcterms:modified xsi:type="dcterms:W3CDTF">2015-08-04T14:23:22Z</dcterms:modified>
  <cp:revision>47</cp:revision>
  <dc:subject>Basic moral orientations</dc:subject>
  <dc:title>Basic Moral Orientations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ethics.acusd.edu/theory/</vt:lpwstr>
  </property>
  <property fmtid="{D5CDD505-2E9C-101B-9397-08002B2CF9AE}" pid="9" name="LinkColor">
    <vt:r8>16711782</vt:r8>
  </property>
  <property fmtid="{D5CDD505-2E9C-101B-9397-08002B2CF9AE}" pid="10" name="MailAddress">
    <vt:lpwstr>hinman@acusd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wwwroot2\theory\Intro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